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B06-B7D4-4344-955C-B20B2556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70D-6812-4F0A-9F2D-05EC5A0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A97-AF2F-466E-B27C-FC3009C9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786-AE3A-4FA3-A9F2-4789BBFA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936-0D0D-4D3B-B9B0-DF6A55B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557-1D1A-41CB-AAA9-0A3C5DE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B7D-E638-4E03-9B22-0B013AE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BE5-DC8B-4C99-94FC-A97C432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385-AF34-4AE2-B992-8129044C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B8B-70FE-4F19-87C0-DD7580E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6AD-A727-4C44-A5FB-65E0707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213-7721-4223-AD19-2B0C719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9C43-19D1-4C57-BFFC-9F9BBD80C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Confucianism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and Confucius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551–479 B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Jenna Wein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etc.usf.edu/clipart/7500/7548/confucius_7548_lg.gif"/>
          <p:cNvPicPr/>
          <p:nvPr/>
        </p:nvPicPr>
        <p:blipFill>
          <a:blip r:embed="rId1"/>
          <a:stretch/>
        </p:blipFill>
        <p:spPr>
          <a:xfrm>
            <a:off x="6946920" y="3886200"/>
            <a:ext cx="21970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cityofdharmarealm.org/Events/2008/pictures/confucius.jpg"/>
          <p:cNvPicPr/>
          <p:nvPr/>
        </p:nvPicPr>
        <p:blipFill>
          <a:blip r:embed="rId2"/>
          <a:stretch/>
        </p:blipFill>
        <p:spPr>
          <a:xfrm>
            <a:off x="0" y="0"/>
            <a:ext cx="2135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974960" y="1908000"/>
            <a:ext cx="5041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alibri"/>
              </a:rPr>
              <a:t>Confuci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Chinese philosop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His teachings have influenced East Asia, including China, Korea, Japan, and Vietnam for many centu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lived from 551–479 B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His ideas were not accepted during his life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Confucius did not leave any writings of his own. Instead, we have only texts with recollections, passed down from his disciples and their students.</a:t>
            </a:r>
            <a:br>
              <a:rPr sz="3200"/>
            </a:b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More Confuci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e was born Tsu, which is now the Chinese Province of Shant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is father was a magistrate and soldier. Who dies when he was young, leaving him to grow into pov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At the age of 22, he started the first private school in China, teaching his philosophy of ideal personal conduct, benevolence, and justice by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More Confuci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n his fifties, he became the Grand Official of Justice for the State of 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fter leaving that position, he spent the last 13 years of his life traveling around China teaching his philosoph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ilial P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lial piety” is considered among the greatest of virtues and must be shown towards both the living and the dead. The term "filial" characterizes the respect that a child, originally a son, should show to his par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milar to that of ancestor worshi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edu.people.com.cn/mediafile/200701/25/F200701250311223770123376.jpg"/>
          <p:cNvPicPr/>
          <p:nvPr/>
        </p:nvPicPr>
        <p:blipFill>
          <a:blip r:embed="rId1"/>
          <a:stretch/>
        </p:blipFill>
        <p:spPr>
          <a:xfrm>
            <a:off x="0" y="4648320"/>
            <a:ext cx="3021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-139680" y="1365120"/>
            <a:ext cx="9290160" cy="549936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1170000" y="146160"/>
            <a:ext cx="6742080" cy="1938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2938320" y="4303800"/>
            <a:ext cx="5168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Anal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Analects of Confucius  are the closest primary source we have for his thou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ok relates his sayings and discussions with rulers and disciples in short pass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re is considerable debate over how to interpret the Anal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hinese title literally means "discussion over [Confucius'] word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chinabooks.ch/catalog/images/48.0096.jpg"/>
          <p:cNvPicPr/>
          <p:nvPr/>
        </p:nvPicPr>
        <p:blipFill>
          <a:blip r:embed="rId1"/>
          <a:stretch/>
        </p:blipFill>
        <p:spPr>
          <a:xfrm>
            <a:off x="2057400" y="0"/>
            <a:ext cx="1066680" cy="150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chinabooks.ch/catalog/images/48.0096.jpg"/>
          <p:cNvPicPr/>
          <p:nvPr/>
        </p:nvPicPr>
        <p:blipFill>
          <a:blip r:embed="rId2"/>
          <a:stretch/>
        </p:blipFill>
        <p:spPr>
          <a:xfrm>
            <a:off x="6019920" y="0"/>
            <a:ext cx="10666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he Death of Confuci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n mainland China, Confucius is honored on the anniversary of his death - October 1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e his honored on the anniversary of his birth (September 2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is birthday is a legal holiday in Taiw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is referred to as Teacher's Day since Confucius is considered the greatest teacher in Chinese hi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Everything has its beauty, but now everyone sees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 hear and I forget, I see and I remember, I do and I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t doesn’t matter how slowly you go, as long as you do not 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What the superior man seeks in himself is what the small man seeks i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7716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06:52Z</dcterms:created>
  <dc:creator>cl10weindelj</dc:creator>
  <dc:description/>
  <dc:language>en-US</dc:language>
  <cp:lastModifiedBy>cl10weindelj</cp:lastModifiedBy>
  <dcterms:modified xsi:type="dcterms:W3CDTF">2009-03-16T14:36:28Z</dcterms:modified>
  <cp:revision>11</cp:revision>
  <dc:subject/>
  <dc:title>Confucianism</dc:title>
</cp:coreProperties>
</file>